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D78-CEB2-4DDD-9E32-A9125A07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2AB6-E826-4D70-AA3A-37D4E1BE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11E-4B19-4674-921B-1FD6B053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BAA-9261-4299-8D45-CAFB7B4B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2426-2810-4CD4-9C69-7DE46E82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D491-4811-4BA8-940B-134EAA23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39F-8AFB-4AFB-A154-B44FDB18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F51C-FC89-4852-B8D6-AAF4E3E3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4CA-8A94-4660-BE3B-E2894944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327B-014D-4226-A32E-49D82C81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1ED-BDEC-4123-AD88-F4306E05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C4AD-0C37-41B9-B12A-557068A8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ABFE-EC12-431E-8222-0CD2E8B53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33"/>
                </a:solidFill>
                <a:latin typeface="Bookman Old Style"/>
              </a:rPr>
              <a:t>Пришкіль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33"/>
                </a:solidFill>
                <a:latin typeface="Bookman Old Style"/>
              </a:rPr>
              <a:t>оздоровч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33"/>
                </a:solidFill>
                <a:latin typeface="Bookman Old Style"/>
              </a:rPr>
              <a:t>таб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67" descr="http://sh32.klasna.com/uploads/editor/3465/334762/sitepage_80/images/dscn5289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1494600">
            <a:off x="6271920" y="4213080"/>
            <a:ext cx="2360520" cy="21337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3300"/>
                </a:solidFill>
                <a:latin typeface="Monotype Corsiva"/>
              </a:rPr>
              <a:t>Фізичний розви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імнастика, змагання, пішохідні екскурс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ухливі іг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23960" cy="139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20598000">
            <a:off x="457200" y="3123720"/>
            <a:ext cx="3441600" cy="2968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1126200">
            <a:off x="5181120" y="3200400"/>
            <a:ext cx="3353040" cy="291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238880" y="152280"/>
            <a:ext cx="1600200" cy="152424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Monotype Corsiva"/>
              </a:rPr>
              <a:t>Пізнавальний розви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криття різноманіття і кра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точуючого сві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читися бути відповідаль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 rot="20601600">
            <a:off x="380880" y="3276360"/>
            <a:ext cx="4267440" cy="2840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1072200">
            <a:off x="4723920" y="3428640"/>
            <a:ext cx="3962520" cy="26575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Естетичний розви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Через музику, книгу, живопи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відвідування музеїв, кінотеат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86" descr="http://sh32.klasna.com/uploads/editor/3465/334762/sitepage_80/images/dscn5389.jpg"/>
          <p:cNvPicPr/>
          <p:nvPr/>
        </p:nvPicPr>
        <p:blipFill>
          <a:blip r:embed="rId1"/>
          <a:stretch/>
        </p:blipFill>
        <p:spPr>
          <a:xfrm rot="20709000">
            <a:off x="380880" y="2514600"/>
            <a:ext cx="2800440" cy="25621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3" descr="http://sh32.klasna.com/uploads/editor/3465/334762/sitepage_80/images/img_2322.jpg"/>
          <p:cNvPicPr/>
          <p:nvPr/>
        </p:nvPicPr>
        <p:blipFill>
          <a:blip r:embed="rId2"/>
          <a:stretch/>
        </p:blipFill>
        <p:spPr>
          <a:xfrm rot="1200000">
            <a:off x="5791320" y="2590920"/>
            <a:ext cx="2868480" cy="21524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6" descr="http://sh32.klasna.com/uploads/editor/3465/334762/sitepage_80/images/dscn5418.jpg"/>
          <p:cNvPicPr/>
          <p:nvPr/>
        </p:nvPicPr>
        <p:blipFill>
          <a:blip r:embed="rId3"/>
          <a:stretch/>
        </p:blipFill>
        <p:spPr>
          <a:xfrm rot="1461600">
            <a:off x="3048120" y="3505320"/>
            <a:ext cx="3276360" cy="28764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Творчий розви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ступи на концертах,участь у змаганн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нкурсах, заняття в гурт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96" descr="http://sh32.klasna.com/uploads/editor/3465/334762/sitepage_80/images/dscn5418.jpg"/>
          <p:cNvPicPr/>
          <p:nvPr/>
        </p:nvPicPr>
        <p:blipFill>
          <a:blip r:embed="rId1"/>
          <a:stretch/>
        </p:blipFill>
        <p:spPr>
          <a:xfrm>
            <a:off x="1066680" y="2362320"/>
            <a:ext cx="7391520" cy="419076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Monotype Corsiva"/>
              </a:rPr>
              <a:t>Екологічний розви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байливе ставлення до природи, піклування про рослин, участь у трудовій діяль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64" descr="http://sh32.klasna.com/uploads/editor/3465/334762/sitepage_80/images/dscn5278.jpg"/>
          <p:cNvPicPr/>
          <p:nvPr/>
        </p:nvPicPr>
        <p:blipFill>
          <a:blip r:embed="rId1"/>
          <a:stretch/>
        </p:blipFill>
        <p:spPr>
          <a:xfrm rot="21173400">
            <a:off x="380520" y="2971440"/>
            <a:ext cx="3276720" cy="31813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2" descr="http://sh32.klasna.com/uploads/editor/3465/334762/sitepage_80/images/dscn5275.jpg"/>
          <p:cNvPicPr/>
          <p:nvPr/>
        </p:nvPicPr>
        <p:blipFill>
          <a:blip r:embed="rId2"/>
          <a:stretch/>
        </p:blipFill>
        <p:spPr>
          <a:xfrm rot="458400">
            <a:off x="5409720" y="3048120"/>
            <a:ext cx="3200400" cy="31240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Закони табор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Закону - правило неухильного дотримання всіх законів, що діють у табор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Території – не виходити за територію школи без дозволу вихователя, не заважати роботі іншого заг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Часу – не спізнювати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Ввічливості та поваги у ставленні до дорослих і друз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Дружби – підтримка і взаємовиручка. Один за всіх і всі за од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Зелені – бережно відноситись до приро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Дисципліни – бути дисциплінованим, дотримуватись правил техніки безпеки на екскурсіях, правил дорожнього руху і пожежної безпе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Діти, дружно по порядку, всі вставайте на зарядк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20" descr="http://sh32.klasna.com/uploads/editor/3465/334762/sitepage_80/images/img_2285.jpg"/>
          <p:cNvPicPr/>
          <p:nvPr/>
        </p:nvPicPr>
        <p:blipFill>
          <a:blip r:embed="rId1"/>
          <a:stretch/>
        </p:blipFill>
        <p:spPr>
          <a:xfrm rot="20530800">
            <a:off x="685440" y="350496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904200">
            <a:off x="4190760" y="1980720"/>
            <a:ext cx="4419360" cy="27082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Лінійка в табор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91" descr="http://sh32.klasna.com/uploads/editor/3465/334762/sitepage_80/images/dscn5400.jpg"/>
          <p:cNvPicPr/>
          <p:nvPr/>
        </p:nvPicPr>
        <p:blipFill>
          <a:blip r:embed="rId1"/>
          <a:stretch/>
        </p:blipFill>
        <p:spPr>
          <a:xfrm>
            <a:off x="380880" y="9907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8" descr="http://sh32.klasna.com/uploads/editor/3465/334762/sitepage_80/images/dscn5405.jpg"/>
          <p:cNvPicPr/>
          <p:nvPr/>
        </p:nvPicPr>
        <p:blipFill>
          <a:blip r:embed="rId2"/>
          <a:stretch/>
        </p:blipFill>
        <p:spPr>
          <a:xfrm>
            <a:off x="4876920" y="3352680"/>
            <a:ext cx="3809880" cy="289584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685800" y="-534168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1. м.Кіровоград КЗНВО ЗНЗ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II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ст. №1 ДЮЦ «Перлин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Табір «Джерельц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Галюк Кат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2. м. Кіровоград НВО №32 «Школа мистецт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Табір «Весел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Крамаренко Анастас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3. м. Кіровоград ЗОШ №4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II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с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Табір «Орлятк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Твердоступ Дар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’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Старовотенко Тетя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4. м. Миколаїв Арбузинсько р-ну Арбузинська ЗОШ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II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ст. №2  Табір «Бриганти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Дмитришина Ганна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Monotype Corsiva"/>
              </a:rPr>
              <a:t>Всі за стіл, дізнатись час:  на сніданок що у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49528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Враженн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ходивши практику в школі, нам дуже сподобалося. Застосували набуті знання у практиці, отримали новий досвід у роботі з ді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никли такі труднощі я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гін  складав різний вік дітей та різний матеріальний стан кожної сі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сока неорганізованість бать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 намагалися проводити різноманітні заходи, враховуючи вікові та індивідуальні особливості дітей, їхні можливості, нахили, інтереси, здібності, а також всі напрями виховання, щоб формувати всебічно-розвинену, гармонічну особисті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всі розмаїття заходів, змістовну роботу, наявний досвід роботи з дітьми, ми щиро вдячні викладачам шкі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езентацію виконал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уденти 36 групи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акультету педагогіки та психолог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Крамаренко Анастасі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Твердоступ Дар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’</a:t>
            </a: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Галюк Кате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Старовотенко Тетя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Дмитришина Ган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33cc"/>
                </a:solidFill>
                <a:latin typeface="Monotype Corsiva"/>
              </a:rPr>
              <a:t>М Е Т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ворити умови для реалізації права кожної дитини на повноцінний відпочин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рганізувати оздоровлення дітей в табор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безпечити систематичні заняття дітей фізичною культуро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прияти формуванню навичок здорового способу житт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безпечити змістовне дозвіл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ворити умови для розвитку творчих здібностей ді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ти цілеспрямований інтерес до історії, традицій, екології рідного кр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33cc"/>
                </a:solidFill>
                <a:latin typeface="Monotype Corsiva"/>
              </a:rPr>
              <a:t>З А В Д А Н Н Я</a:t>
            </a: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рганізувати активний та безпеч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починок ді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цнювати здор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 школярів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безпечити виконання дітьми режиму дня, правильне чергування фізичних, емоційних навантажень протягом дня і всього пері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дати реальну допомогу кожній дитині у розвитку позитивних якостей, необхідних для повноцінного життя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ти цілеспрямований інтерес до історії , традицій, екології рідного краю , до вивчення довкіл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6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68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cc"/>
                </a:solidFill>
                <a:latin typeface="Monotype Corsiva"/>
              </a:rPr>
              <a:t>Очікувані резуль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меншення захворюваності ді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ниження рівня травматиз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вищення рівня розвитку комунікаційних здібностей учнів, їхньої творчої активності , рівня вихованості і якості зна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ширення кругозору, підвищення рівня знань про історію, традиції рідного к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cc"/>
                </a:solidFill>
                <a:latin typeface="Monotype Corsiva"/>
              </a:rPr>
              <a:t>Обов’язкові передумови роботи табор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фективне використання природних ресурс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алансоване харч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ітке дотримання у таборі встановлених санітарно – гігієнічних нор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лежна організація фізкультурно – оздоровчої роб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тримання режиму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иток соціальної активності ді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ізноманітні виховні захо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Monotype Corsiva"/>
              </a:rPr>
              <a:t>Виховна робота в таборах передбача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уманізацію виховного проц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рганічний з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зок з національною історією, культурою, традиціями рідного кра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алізацію інтересів, запитів, індивідуальних здібностей учн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півробітництво з закладами культури, дитячими позашкільни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безпечення елементів ігрової діяльно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13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64" descr="http://sh32.klasna.com/uploads/editor/3465/334762/sitepage_80/images/dscn5278.jpg"/>
          <p:cNvPicPr/>
          <p:nvPr/>
        </p:nvPicPr>
        <p:blipFill>
          <a:blip r:embed="rId1"/>
          <a:stretch/>
        </p:blipFill>
        <p:spPr>
          <a:xfrm rot="20492400">
            <a:off x="304920" y="6094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3" descr="http://sh32.klasna.com/uploads/editor/3465/334762/sitepage_80/images/dscn5277.jpg"/>
          <p:cNvPicPr/>
          <p:nvPr/>
        </p:nvPicPr>
        <p:blipFill>
          <a:blip r:embed="rId2"/>
          <a:stretch/>
        </p:blipFill>
        <p:spPr>
          <a:xfrm rot="1120200">
            <a:off x="5028840" y="609480"/>
            <a:ext cx="3600360" cy="3399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5" descr="http://sh32.klasna.com/uploads/editor/3465/334762/sitepage_80/images/dscn5280.jpg"/>
          <p:cNvPicPr/>
          <p:nvPr/>
        </p:nvPicPr>
        <p:blipFill>
          <a:blip r:embed="rId3"/>
          <a:stretch/>
        </p:blipFill>
        <p:spPr>
          <a:xfrm rot="465000">
            <a:off x="1066680" y="3580920"/>
            <a:ext cx="3657600" cy="280044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я</cp:lastModifiedBy>
  <dcterms:modified xsi:type="dcterms:W3CDTF">2012-09-20T20:13:30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